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BBA3-E668-4514-83E6-3B80C6B70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John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chemistry Mic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 M Science Symposium his favorite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k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6DD0-54D4-4089-814E-FB9F9DA39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4510-F751-4DEB-B960-87B1CE2C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132A-1235-4796-95C8-AED0DDC8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4BFB-F948-4148-A3EA-A6A7DBE4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09F-91C0-42E2-ADD1-63263164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E18D-5CAD-406C-B71E-D1B6A796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0A5C-600C-4FBC-AA0E-A23691AD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E821-5163-484D-8C51-23842A8B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0D69-D711-4377-A001-7D602E62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FE39-ABC7-42A1-AD91-0C92A2CE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23AA-CAE5-4B6E-8390-E59B85AD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68D6-2BA6-449E-9859-8388B2C0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FBB8-25A0-4E57-B7F0-0D812B13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4FC4-04ED-48BB-BBAA-0FDF8146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ED61-DFF2-4F1B-A003-C937AC7C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2166-0B50-4BD8-8A97-C6D8EF49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6363-DD21-4FD1-B64D-9DF228AF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C611-BBDC-4F49-81D1-67BC4A73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800D0-C439-4F17-AC46-A8B0A535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B1475-E998-4911-ADF8-EB135817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F1518-55C4-4C00-A7EC-C7716386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42FC5-9D64-43BD-B488-18C01426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80FA7-A7C2-497D-9AA9-AE78D0C6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A2D4-B76D-4B96-80AA-359FFF0D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FA9D1-7DDB-4B5C-97CA-79740DFF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C6F32-CA75-4A0D-B208-15F9BB5D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F42CE-4D9C-4F18-8AD5-7DDD3924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6B62D-C45D-4047-A6E1-DC8D1C9E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9C5DE-D29B-4647-A23B-C11AF719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454B8-AEFF-400D-9F46-289B8A11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EF224-9AE3-42CE-BB41-D7BCA67F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C9F90-3112-403E-B63F-84C336C6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BF54D-B686-4896-B19C-25944C69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10AC0-6B99-429C-B5D1-1ECF3A3A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68C3-8CDA-4613-A686-59764FAF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483C6-2C87-485E-B3A4-0E3E2EBD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9C54D-CA7A-4D11-A49D-DCEC3279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0EF04-24FB-486B-8FE1-0B645D37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33169-04F0-48A0-A4AB-64F338FB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3DF8B-10E1-4988-915D-79D88C45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4E1D1-E1E6-4BEA-A8D3-C9DEDCFC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BB4F0-50BA-4CB0-A119-614D853A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07E77-ADEC-49F2-9BBF-1A66AC5C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90715-F9C2-4220-918B-1C327789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BD1E8-BB1F-49EF-B06B-A06BCC39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2BF6-39B9-4621-BC56-A0FFD4D9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FC0E9-F93D-449F-993E-618C9F7D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BECA1-E6B2-4243-A0F5-FA9BE9C4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3CAF5-2DF2-46F1-8E34-7E233748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A99C4-BD17-49C3-9F97-B29507DF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80D16-A484-4FA7-8702-3F1D1FC2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B513C-7ACF-49F5-A36C-DC36E91D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04131-65C0-411D-AAA5-888D094A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F5AD4-A195-450B-8FDC-8B3AEA42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62211-5E9F-4EAA-9708-AD9C4C5D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B5D87-B362-4881-AAAA-B560CF01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F637-06B8-4CD7-90CF-9478EEC6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2D1EB-E04B-4BFD-80D2-35C16924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65B9-1433-474B-964F-C8B19C3D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A3CC-07EE-4852-86A2-29E7818D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E015-F6F4-449C-A3E5-900824DB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0550-F8F3-4240-8403-402E78B88A2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0502-E79E-4D34-AE31-A487B9B5DA1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431D-0E42-48D4-BC4B-12E5E90F049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A024-8D6E-4DAB-A795-BED079F68DB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E678-9430-4D47-9045-1832D7213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9" descr="Black_Lotus_Flower_IMGP7691-7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M: Science, Technology, Engineering, and Mathemati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85800" y="5914800"/>
            <a:ext cx="7772400" cy="9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ing Students for their Future Care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7240" y="6488280"/>
            <a:ext cx="44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©Bahman Farzad / lotusflowerimages.co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0" y="419040"/>
            <a:ext cx="88390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200"/>
                </a:solidFill>
                <a:latin typeface="Adobe Garamond Pro Bold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dobe Garamond Pro Bold"/>
              </a:rPr>
              <a:t>The BCS STEM Program will provide </a:t>
            </a:r>
            <a:r>
              <a:rPr b="1" lang="en-US" sz="3200" spc="-1" strike="noStrike" u="sng">
                <a:solidFill>
                  <a:srgbClr val="663300"/>
                </a:solidFill>
                <a:uFillTx/>
                <a:latin typeface="Adobe Garamond Pro Bold"/>
              </a:rPr>
              <a:t>ALL</a:t>
            </a:r>
            <a:r>
              <a:rPr b="1" lang="en-US" sz="3200" spc="-1" strike="noStrike">
                <a:solidFill>
                  <a:srgbClr val="663300"/>
                </a:solidFill>
                <a:latin typeface="Adobe Garamond Pro Bold"/>
              </a:rPr>
              <a:t> Blount County students with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dobe Garamond Pro Bold"/>
              </a:rPr>
              <a:t>	</a:t>
            </a:r>
            <a:r>
              <a:rPr b="1" lang="en-US" sz="2800" spc="-1" strike="noStrike">
                <a:solidFill>
                  <a:srgbClr val="663300"/>
                </a:solidFill>
                <a:latin typeface="Adobe Garamond Pro Bold"/>
              </a:rPr>
              <a:t>Solid STEM coursework foundations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dobe Garamond Pro Bold"/>
              </a:rPr>
              <a:t>	</a:t>
            </a:r>
            <a:r>
              <a:rPr b="1" lang="en-US" sz="2800" spc="-1" strike="noStrike">
                <a:solidFill>
                  <a:srgbClr val="663300"/>
                </a:solidFill>
                <a:latin typeface="Adobe Garamond Pro Bold"/>
              </a:rPr>
              <a:t>Collaborative problem solving Experience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dobe Garamond Pro Bold"/>
              </a:rPr>
              <a:t>	</a:t>
            </a:r>
            <a:r>
              <a:rPr b="1" lang="en-US" sz="2800" spc="-1" strike="noStrike">
                <a:solidFill>
                  <a:srgbClr val="663300"/>
                </a:solidFill>
                <a:latin typeface="Adobe Garamond Pro Bold"/>
              </a:rPr>
              <a:t>Research and Internship Opportunities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dobe Garamond Pro Bold"/>
              </a:rPr>
              <a:t>	</a:t>
            </a:r>
            <a:r>
              <a:rPr b="1" lang="en-US" sz="2800" spc="-1" strike="noStrike">
                <a:solidFill>
                  <a:srgbClr val="663300"/>
                </a:solidFill>
                <a:latin typeface="Adobe Garamond Pro Bold"/>
              </a:rPr>
              <a:t>Project-based learning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dobe Garamond Pro Bold"/>
              </a:rPr>
              <a:t>	</a:t>
            </a:r>
            <a:r>
              <a:rPr b="1" lang="en-US" sz="2800" spc="-1" strike="noStrike">
                <a:solidFill>
                  <a:srgbClr val="663300"/>
                </a:solidFill>
                <a:latin typeface="Adobe Garamond Pro Bold"/>
              </a:rPr>
              <a:t>The Challenge to Solve Non-routine Problem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"/>
          <p:cNvSpPr/>
          <p:nvPr/>
        </p:nvSpPr>
        <p:spPr>
          <a:xfrm>
            <a:off x="380880" y="-198000"/>
            <a:ext cx="8763120" cy="70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dobe Garamond Pro Bold"/>
                <a:ea typeface="Times New Roman"/>
              </a:rPr>
              <a:t>HHS STEM TEAM’S Phase 1 GOAL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dobe Garamond Pro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dobe Garamond Pro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Adobe Garamond Pro"/>
                <a:ea typeface="Times New Roman"/>
              </a:rPr>
              <a:t>Establish paths of study for STEM endorsement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dobe Garamond Pro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dobe Garamond Pro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dobe Garamond Pro"/>
                <a:ea typeface="Times New Roman"/>
              </a:rPr>
              <a:t>Gauge faculty, community, and student interes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dobe Garamond Pro"/>
                <a:ea typeface="Times New Roman"/>
              </a:rPr>
              <a:t>through survey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dobe Garamond Pro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dobe Garamond Pro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dobe Garamond Pro"/>
                <a:ea typeface="Times New Roman"/>
              </a:rPr>
              <a:t>Write a mission statement and goals for the program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dobe Garamond Pro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dobe Garamond Pro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dobe Garamond Pro"/>
                <a:ea typeface="Times New Roman"/>
              </a:rPr>
              <a:t>Propose a timeline for implementa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dobe Garamond Pro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dobe Garamond Pro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dobe Garamond Pro"/>
                <a:ea typeface="Times New Roman"/>
              </a:rPr>
              <a:t>Identify potential sources of funding and resources through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dobe Garamond Pro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663300"/>
                </a:solidFill>
                <a:latin typeface="Adobe Garamond Pro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663300"/>
                </a:solidFill>
                <a:latin typeface="Adobe Garamond Pro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663300"/>
                </a:solidFill>
                <a:latin typeface="Adobe Garamond Pro"/>
                <a:ea typeface="Times New Roman"/>
              </a:rPr>
              <a:t>Regional Business Partnership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dobe Garamond Pro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dobe Garamond Pro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dobe Garamond Pro"/>
                <a:ea typeface="Times New Roman"/>
              </a:rPr>
              <a:t>Pilot a STEM program for HHS and BC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3300"/>
                </a:solidFill>
                <a:latin typeface="Adobe Garamond Pro Bold"/>
              </a:rPr>
              <a:t>Proposed Paths of Study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040" y="1371240"/>
            <a:ext cx="7467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975"/>
              </a:spcBef>
              <a:buClr>
                <a:srgbClr val="cc9900"/>
              </a:buClr>
              <a:buSzPct val="6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3300"/>
                </a:solidFill>
                <a:latin typeface="Garamond"/>
              </a:rPr>
              <a:t>Advanced Health Occupat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975"/>
              </a:spcBef>
              <a:buClr>
                <a:srgbClr val="cc9900"/>
              </a:buClr>
              <a:buSzPct val="6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3300"/>
                </a:solidFill>
                <a:latin typeface="Garamond"/>
              </a:rPr>
              <a:t>Health and Life Scien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975"/>
              </a:spcBef>
              <a:buClr>
                <a:srgbClr val="cc9900"/>
              </a:buClr>
              <a:buSzPct val="6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3300"/>
                </a:solidFill>
                <a:latin typeface="Garamond"/>
              </a:rPr>
              <a:t>Advanced Pre-Engineering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975"/>
              </a:spcBef>
              <a:buClr>
                <a:srgbClr val="cc9900"/>
              </a:buClr>
              <a:buSzPct val="6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3300"/>
                </a:solidFill>
                <a:latin typeface="Garamond"/>
              </a:rPr>
              <a:t>Pre-Engineering Applications, Drafting, and Desig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3300"/>
                </a:solidFill>
                <a:latin typeface="Adobe Garamond Pro"/>
              </a:rPr>
              <a:t>Thinkers and doers reacting organically collaborating for succe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173160" y="1773360"/>
          <a:ext cx="8746920" cy="4514760"/>
        </p:xfrm>
        <a:graphic>
          <a:graphicData uri="http://schemas.openxmlformats.org/drawingml/2006/table">
            <a:tbl>
              <a:tblPr/>
              <a:tblGrid>
                <a:gridCol w="955440"/>
                <a:gridCol w="955800"/>
                <a:gridCol w="955800"/>
                <a:gridCol w="957240"/>
                <a:gridCol w="939600"/>
                <a:gridCol w="1035000"/>
                <a:gridCol w="1035360"/>
                <a:gridCol w="955440"/>
                <a:gridCol w="957240"/>
              </a:tblGrid>
              <a:tr h="253800">
                <a:tc gridSpan="9"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ors/AP   PRE-Engineer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e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er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er 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er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er 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er 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er 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er 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25380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. I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m.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 IIA 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 IIB 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 &amp; St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Cal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.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 Calc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. I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. II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. III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. IV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 I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.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s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ce Resear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ior Sci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Stud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. Geo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. Hist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 Hist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t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 rowSpan="2"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Applic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Lang 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Lang 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les of Engineer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M Capst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ln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/ P. F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Ar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iv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7" rowSpan="3">
                  <a:txBody>
                    <a:bodyPr lIns="10080" rIns="10080" tIns="100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AP English may replace Honors English,  Can CAD satisfy Comp Apps?  Can CAD2 satisy F.Arts?  Do we need to include Trig/Adv.Alg?  Eng.II H and W.Hist H are taught during the same semester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10080" marR="100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TextBox 3"/>
          <p:cNvSpPr/>
          <p:nvPr/>
        </p:nvSpPr>
        <p:spPr>
          <a:xfrm>
            <a:off x="685800" y="9144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dvanced   PRE-Engineering Pathway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111240" y="1828800"/>
          <a:ext cx="8872560" cy="3997440"/>
        </p:xfrm>
        <a:graphic>
          <a:graphicData uri="http://schemas.openxmlformats.org/drawingml/2006/table">
            <a:tbl>
              <a:tblPr/>
              <a:tblGrid>
                <a:gridCol w="969840"/>
                <a:gridCol w="969840"/>
                <a:gridCol w="968400"/>
                <a:gridCol w="970200"/>
                <a:gridCol w="954000"/>
                <a:gridCol w="1050840"/>
                <a:gridCol w="1049400"/>
                <a:gridCol w="969840"/>
                <a:gridCol w="970200"/>
              </a:tblGrid>
              <a:tr h="254160">
                <a:tc gridSpan="9"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Engineering CAD and DESIG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24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e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er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er 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er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er 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er 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er 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er 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 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 I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met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. I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 II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ite Ma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. 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. 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. 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. 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 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. Sc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 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Stud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 Geograph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 Histo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ce Resear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 rowSpan="2"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Applic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Lang 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Lang 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les of Engineer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M Capst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C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ln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/ P. F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Ar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iv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TextBox 2"/>
          <p:cNvSpPr/>
          <p:nvPr/>
        </p:nvSpPr>
        <p:spPr>
          <a:xfrm>
            <a:off x="304920" y="10764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E-Engineering CAD and Design Pathway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Inclusive program</a:t>
            </a:r>
            <a:br>
              <a:rPr sz="2000"/>
            </a:b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Fine arts CTE Core Academic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Trans-disciplinary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Technology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Initail requests $ PD Early out time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Current sponsors****** logos </a:t>
            </a:r>
            <a:br>
              <a:rPr sz="2000"/>
            </a:b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Roane state TVA BCEF Blount Memorial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59200"/>
                </a:solidFill>
                <a:latin typeface="Adobe Garamond Pro Bold"/>
              </a:rPr>
              <a:t>Current Sponso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2314800" cy="4096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6761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STEM Clips1.wmv" descr=""/>
          <p:cNvPicPr/>
          <p:nvPr/>
        </p:nvPicPr>
        <p:blipFill>
          <a:blip r:embed="rId1"/>
          <a:stretch/>
        </p:blipFill>
        <p:spPr>
          <a:xfrm>
            <a:off x="1073160" y="1073160"/>
            <a:ext cx="7010280" cy="48769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2"/>
          <p:cNvSpPr/>
          <p:nvPr/>
        </p:nvSpPr>
        <p:spPr>
          <a:xfrm>
            <a:off x="846000" y="206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9200"/>
                </a:solidFill>
                <a:latin typeface="Arial"/>
              </a:rPr>
              <a:t>Do We Need a STEM Program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Title 1" descr=""/>
          <p:cNvPicPr/>
          <p:nvPr/>
        </p:nvPicPr>
        <p:blipFill>
          <a:blip r:embed="rId1"/>
          <a:stretch/>
        </p:blipFill>
        <p:spPr>
          <a:xfrm>
            <a:off x="92160" y="19080"/>
            <a:ext cx="90583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" y="912240"/>
            <a:ext cx="912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59200"/>
                </a:solidFill>
                <a:latin typeface="Adobe Garamond Pro Bold"/>
                <a:ea typeface="Arial"/>
              </a:rPr>
              <a:t>"</a:t>
            </a:r>
            <a:r>
              <a:rPr b="1" i="1" lang="en-US" sz="5400" spc="-1" strike="noStrike">
                <a:solidFill>
                  <a:srgbClr val="959200"/>
                </a:solidFill>
                <a:latin typeface="Adobe Garamond Pro Bold"/>
                <a:ea typeface="Arial"/>
              </a:rPr>
              <a:t>It's kind of fun to do 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59200"/>
                </a:solidFill>
                <a:latin typeface="Adobe Garamond Pro Bold"/>
                <a:ea typeface="Arial"/>
              </a:rPr>
              <a:t>the impossible."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959200"/>
                </a:solidFill>
                <a:latin typeface="Adobe Garamond Pro Bold"/>
                <a:ea typeface="Arial"/>
              </a:rPr>
              <a:t>- Walt Disney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0" name="Picture 5" descr=""/>
          <p:cNvPicPr/>
          <p:nvPr/>
        </p:nvPicPr>
        <p:blipFill>
          <a:blip r:embed="rId1"/>
          <a:stretch/>
        </p:blipFill>
        <p:spPr>
          <a:xfrm>
            <a:off x="4800600" y="2666880"/>
            <a:ext cx="378468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663300"/>
                </a:solidFill>
                <a:latin typeface="Garamond"/>
              </a:rPr>
              <a:t>BLOUNT COUNTY STEM </a:t>
            </a:r>
            <a:r>
              <a:rPr b="1" lang="en-US" sz="4700" spc="-1" strike="noStrike">
                <a:solidFill>
                  <a:srgbClr val="663300"/>
                </a:solidFill>
                <a:latin typeface="Garamond"/>
              </a:rPr>
              <a:t>INITIATIVE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663300"/>
                </a:solidFill>
                <a:latin typeface="Garamond"/>
              </a:rPr>
              <a:t>at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663300"/>
                </a:solidFill>
                <a:latin typeface="Garamond"/>
              </a:rPr>
              <a:t>Heritage High School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457200" y="990720"/>
          <a:ext cx="8547120" cy="4665600"/>
        </p:xfrm>
        <a:graphic>
          <a:graphicData uri="http://schemas.openxmlformats.org/drawingml/2006/table">
            <a:tbl>
              <a:tblPr/>
              <a:tblGrid>
                <a:gridCol w="1555920"/>
                <a:gridCol w="6991200"/>
              </a:tblGrid>
              <a:tr h="4016160">
                <a:tc>
                  <a:txBody>
                    <a:bodyPr lIns="107280" rIns="107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Arial Black"/>
                          <a:ea typeface="Times New Roman"/>
                        </a:rPr>
                        <a:t>W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Arial Black"/>
                          <a:ea typeface="Times New Roman"/>
                        </a:rPr>
                        <a:t>Matthew McConnell, C.J. Williams, Chris Neal, Kati Messer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Arial Black"/>
                          <a:ea typeface="Times New Roman"/>
                        </a:rPr>
                        <a:t>Mark Andrews, Mary Cooper, Sam Warwick, Mark Rowland, Justin Lane, Kendall Terry, Julie Bell, Brooke Everett, Lisa Collins, Jared Smith, Colleen Mattison, Shane Rewis, Brad </a:t>
                      </a: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Rasmuss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Phil Johnson, Robert Tayl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107280" rIns="107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Arial Black"/>
                          <a:ea typeface="Times New Roman"/>
                        </a:rPr>
                        <a:t>Wh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Arial Black"/>
                          <a:ea typeface="Times New Roman"/>
                        </a:rPr>
                        <a:t>Bi-monthly meet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Rectangle 1"/>
          <p:cNvSpPr/>
          <p:nvPr/>
        </p:nvSpPr>
        <p:spPr>
          <a:xfrm>
            <a:off x="0" y="241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  <a:ea typeface="Times New Roman"/>
              </a:rPr>
              <a:t>HHS STEM TEAM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rcRect l="9688" t="14003" r="36502" b="20003"/>
          <a:stretch/>
        </p:blipFill>
        <p:spPr>
          <a:xfrm>
            <a:off x="655560" y="517680"/>
            <a:ext cx="769644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4465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2"/>
          <a:srcRect l="12720" t="27349" r="11882" b="29239"/>
          <a:stretch/>
        </p:blipFill>
        <p:spPr>
          <a:xfrm>
            <a:off x="914400" y="4419720"/>
            <a:ext cx="7620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"/>
          <p:cNvSpPr/>
          <p:nvPr/>
        </p:nvSpPr>
        <p:spPr>
          <a:xfrm>
            <a:off x="380880" y="990720"/>
            <a:ext cx="868068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dobe Garamond Pro Bold"/>
              </a:rPr>
              <a:t>STEM PROGRAM MISSION STATEMENT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dobe Garamond Pro Bold"/>
              </a:rPr>
              <a:t>To insure our graduates are critical thinkers who are able to solve non-routine problems in a globally competitive society.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dobe Garamond Pro Bold"/>
              </a:rPr>
              <a:t>They will have developed 21st century technology and communication skills and demonstrated self-direction and social responsibility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469800" y="668160"/>
            <a:ext cx="8458200" cy="2548080"/>
          </a:xfrm>
          <a:prstGeom prst="rect">
            <a:avLst/>
          </a:prstGeom>
          <a:ln w="0">
            <a:noFill/>
          </a:ln>
        </p:spPr>
      </p:pic>
      <p:sp>
        <p:nvSpPr>
          <p:cNvPr id="240" name="Subtitle 2"/>
          <p:cNvSpPr/>
          <p:nvPr/>
        </p:nvSpPr>
        <p:spPr>
          <a:xfrm>
            <a:off x="762120" y="3886200"/>
            <a:ext cx="7543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3352680"/>
            <a:ext cx="85345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Blount County Schools Mission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o Maximize the Academic Potential of Every Child in a Safe and Personalized Environment. The BCS will graduate students who are college and career ready and prepared to meet the challenges of the 21st Century workplac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dobe Garamond Pro Bold"/>
              </a:rPr>
              <a:t>Through our STEM curriculum, we wi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75000"/>
              <a:buFont typeface="Adobe Garamond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dobe Garamond Pro Bold"/>
              </a:rPr>
              <a:t>develop the ability to analyze, synthesize and solve problems from which there are no routine solu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3" descr=""/>
          <p:cNvPicPr/>
          <p:nvPr/>
        </p:nvPicPr>
        <p:blipFill>
          <a:blip r:embed="rId1"/>
          <a:stretch/>
        </p:blipFill>
        <p:spPr>
          <a:xfrm>
            <a:off x="1600200" y="0"/>
            <a:ext cx="3886200" cy="30862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4"/>
          <p:cNvSpPr/>
          <p:nvPr/>
        </p:nvSpPr>
        <p:spPr>
          <a:xfrm>
            <a:off x="304920" y="990720"/>
            <a:ext cx="1600200" cy="1447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8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5" name="Picture 2" descr="Greek uc sigma.svg"/>
          <p:cNvPicPr/>
          <p:nvPr/>
        </p:nvPicPr>
        <p:blipFill>
          <a:blip r:embed="rId2"/>
          <a:stretch/>
        </p:blipFill>
        <p:spPr>
          <a:xfrm>
            <a:off x="4952880" y="1066680"/>
            <a:ext cx="1157400" cy="1447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Graph B: down on both ends"/>
          <p:cNvPicPr/>
          <p:nvPr/>
        </p:nvPicPr>
        <p:blipFill>
          <a:blip r:embed="rId3"/>
          <a:stretch/>
        </p:blipFill>
        <p:spPr>
          <a:xfrm>
            <a:off x="6095880" y="609480"/>
            <a:ext cx="2927520" cy="25146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7"/>
          <p:cNvSpPr/>
          <p:nvPr/>
        </p:nvSpPr>
        <p:spPr>
          <a:xfrm>
            <a:off x="6095880" y="685800"/>
            <a:ext cx="4572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316160" y="976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685800" y="20574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2.065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1600200" y="3657600"/>
            <a:ext cx="54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685800" y="3581280"/>
            <a:ext cx="7672320" cy="2311560"/>
          </a:xfrm>
          <a:prstGeom prst="rect">
            <a:avLst/>
          </a:prstGeom>
          <a:solidFill>
            <a:srgbClr val="c39b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9fb44"/>
                </a:solidFill>
                <a:latin typeface="Calibri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Collaboration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     Creativity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Critical Thinking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Communication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Self-Confidence     Social Responsibility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Straight Connector 2"/>
          <p:cNvSpPr/>
          <p:nvPr/>
        </p:nvSpPr>
        <p:spPr>
          <a:xfrm>
            <a:off x="2892600" y="125280"/>
            <a:ext cx="12189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Straight Connector 12"/>
          <p:cNvSpPr/>
          <p:nvPr/>
        </p:nvSpPr>
        <p:spPr>
          <a:xfrm>
            <a:off x="2892600" y="2922480"/>
            <a:ext cx="12189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Straight Connector 13"/>
          <p:cNvSpPr/>
          <p:nvPr/>
        </p:nvSpPr>
        <p:spPr>
          <a:xfrm flipV="1">
            <a:off x="4070520" y="1625400"/>
            <a:ext cx="12600" cy="14079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Straight Connector 17"/>
          <p:cNvSpPr/>
          <p:nvPr/>
        </p:nvSpPr>
        <p:spPr>
          <a:xfrm flipV="1">
            <a:off x="2892600" y="1625400"/>
            <a:ext cx="14040" cy="14079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Straight Connector 18"/>
          <p:cNvSpPr/>
          <p:nvPr/>
        </p:nvSpPr>
        <p:spPr>
          <a:xfrm flipV="1">
            <a:off x="4027320" y="110880"/>
            <a:ext cx="0" cy="1035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Straight Connector 21"/>
          <p:cNvSpPr/>
          <p:nvPr/>
        </p:nvSpPr>
        <p:spPr>
          <a:xfrm flipV="1">
            <a:off x="2906640" y="91800"/>
            <a:ext cx="0" cy="1035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Straight Connector 22"/>
          <p:cNvSpPr/>
          <p:nvPr/>
        </p:nvSpPr>
        <p:spPr>
          <a:xfrm>
            <a:off x="4041720" y="1679400"/>
            <a:ext cx="9111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Straight Connector 24"/>
          <p:cNvSpPr/>
          <p:nvPr/>
        </p:nvSpPr>
        <p:spPr>
          <a:xfrm>
            <a:off x="3995640" y="1117440"/>
            <a:ext cx="9111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Straight Connector 25"/>
          <p:cNvSpPr/>
          <p:nvPr/>
        </p:nvSpPr>
        <p:spPr>
          <a:xfrm>
            <a:off x="1995480" y="1066680"/>
            <a:ext cx="9111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Straight Connector 26"/>
          <p:cNvSpPr/>
          <p:nvPr/>
        </p:nvSpPr>
        <p:spPr>
          <a:xfrm>
            <a:off x="1995480" y="1673280"/>
            <a:ext cx="9111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Straight Connector 27"/>
          <p:cNvSpPr/>
          <p:nvPr/>
        </p:nvSpPr>
        <p:spPr>
          <a:xfrm>
            <a:off x="4861080" y="1031760"/>
            <a:ext cx="0" cy="6890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Straight Connector 32"/>
          <p:cNvSpPr/>
          <p:nvPr/>
        </p:nvSpPr>
        <p:spPr>
          <a:xfrm>
            <a:off x="2030400" y="998640"/>
            <a:ext cx="0" cy="6890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23:41:10Z</dcterms:created>
  <dc:creator>Mark Andrews</dc:creator>
  <dc:description/>
  <dc:language>en-US</dc:language>
  <cp:lastModifiedBy>hhs student</cp:lastModifiedBy>
  <dcterms:modified xsi:type="dcterms:W3CDTF">2011-09-27T13:56:14Z</dcterms:modified>
  <cp:revision>60</cp:revision>
  <dc:subject/>
  <dc:title>Slide 1</dc:title>
</cp:coreProperties>
</file>